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652-A514-4733-B335-9BF36B8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6E3-0A27-4D43-853E-7DC76ED6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C8F-7451-46F2-9852-03649A4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F03-69CA-44E7-A633-F001E5BB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7AC-4D4E-4302-8F29-8B9122D9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B8D-CBD8-487E-9ADA-93F6335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E8B-B739-435C-9DF8-436963A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AE4-0001-4F81-9B6E-0F268BD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F5B-9307-4C19-B6BD-C088684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584-03ED-49C7-AF23-220A3435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26D-9C4C-4A4A-ACD0-4C5EB24F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D14-B5DD-4B42-A281-6CA8EF6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F10-78F8-45ED-843F-D1903F1B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op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281694" descr=""/>
          <p:cNvPicPr/>
          <p:nvPr/>
        </p:nvPicPr>
        <p:blipFill>
          <a:blip r:embed="rId1"/>
          <a:stretch/>
        </p:blipFill>
        <p:spPr>
          <a:xfrm>
            <a:off x="3733920" y="4267080"/>
            <a:ext cx="16207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E03246_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91952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74320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G00525_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60020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D07306_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171936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06428_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25108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81952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o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H00280_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656080" cy="21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39Z</dcterms:modified>
  <cp:revision>13</cp:revision>
  <dc:subject/>
  <dc:title>-ill Word Family</dc:title>
</cp:coreProperties>
</file>